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26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3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7.pct" ContentType="image/x-pict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</p:sldMasterIdLst>
  <p:sldIdLst>
    <p:sldId id="256" r:id="rId75"/>
    <p:sldId id="257" r:id="rId76"/>
    <p:sldId id="258" r:id="rId77"/>
    <p:sldId id="259" r:id="rId78"/>
    <p:sldId id="260" r:id="rId79"/>
    <p:sldId id="261" r:id="rId8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" Target="slides/slide1.xml"/><Relationship Id="rId76" Type="http://schemas.openxmlformats.org/officeDocument/2006/relationships/slide" Target="slides/slide2.xml"/><Relationship Id="rId77" Type="http://schemas.openxmlformats.org/officeDocument/2006/relationships/slide" Target="slides/slide3.xml"/><Relationship Id="rId78" Type="http://schemas.openxmlformats.org/officeDocument/2006/relationships/slide" Target="slides/slide4.xml"/><Relationship Id="rId79" Type="http://schemas.openxmlformats.org/officeDocument/2006/relationships/slide" Target="slides/slide5.xml"/><Relationship Id="rId80" Type="http://schemas.openxmlformats.org/officeDocument/2006/relationships/slide" Target="slides/slide6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1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3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4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7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5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9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9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3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3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6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4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4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7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8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1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5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9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9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9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1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7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68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8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8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6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7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6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0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8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4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95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0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3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3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6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699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4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5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06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19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40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41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42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7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269720" y="304560"/>
            <a:ext cx="1046484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2600" y="6031800"/>
            <a:ext cx="129794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63600" y="278136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63600" y="6031800"/>
            <a:ext cx="63338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4013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789760" y="278136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260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4013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789760" y="6031800"/>
            <a:ext cx="4179240" cy="296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6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511960" y="4699080"/>
            <a:ext cx="19810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543440" y="2653920"/>
            <a:ext cx="469908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4000"/>
          </a:bodyPr>
          <a:p>
            <a:pPr marL="4791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0820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137240" indent="-28188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46592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794960" indent="-28152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761760" y="723960"/>
            <a:ext cx="11480760" cy="8292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98000"/>
          </a:bodyPr>
          <a:p>
            <a:pPr marL="8211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2567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6927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2128320" indent="-56016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563560" indent="-559800">
              <a:spcBef>
                <a:spcPts val="50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44240" y="6527520"/>
            <a:ext cx="1211580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33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44240" y="5346720"/>
            <a:ext cx="12115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444240" y="1270080"/>
            <a:ext cx="12115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61760" y="3606480"/>
            <a:ext cx="11480760" cy="2539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7772400" y="2374920"/>
            <a:ext cx="4788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55080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8708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1822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50228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28268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7272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2171880" indent="-57168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2616120" indent="-57132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7084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11996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51992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93140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701028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965160" y="341640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" descr=""/>
          <p:cNvPicPr/>
          <p:nvPr/>
        </p:nvPicPr>
        <p:blipFill>
          <a:blip r:embed="rId3"/>
          <a:stretch/>
        </p:blipFill>
        <p:spPr>
          <a:xfrm>
            <a:off x="1440" y="6716880"/>
            <a:ext cx="11712600" cy="685800"/>
          </a:xfrm>
          <a:prstGeom prst="rect">
            <a:avLst/>
          </a:prstGeom>
          <a:ln w="0">
            <a:noFill/>
          </a:ln>
        </p:spPr>
      </p:pic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65160" y="6477120"/>
            <a:ext cx="110743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965160" y="8292600"/>
            <a:ext cx="110743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body"/>
          </p:nvPr>
        </p:nvSpPr>
        <p:spPr>
          <a:xfrm>
            <a:off x="965160" y="1320480"/>
            <a:ext cx="11074320" cy="71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657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72000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1199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51992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1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4654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835200" indent="-46512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25316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67112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2089080" indent="-465480">
              <a:spcBef>
                <a:spcPts val="43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34680" y="1384200"/>
            <a:ext cx="5359320" cy="3340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634680" y="5155920"/>
            <a:ext cx="5359320" cy="332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t">
            <a:normAutofit fontScale="7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3"/>
          <a:stretch/>
        </p:blipFill>
        <p:spPr>
          <a:xfrm>
            <a:off x="1384200" y="4876920"/>
            <a:ext cx="384804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683280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1089720" indent="-10897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5483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0444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25311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1335240" indent="-13352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8975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50524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31017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683280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1089720" indent="-10897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5483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0444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253116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018240" indent="-6739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body"/>
          </p:nvPr>
        </p:nvSpPr>
        <p:spPr>
          <a:xfrm>
            <a:off x="12600" y="1091880"/>
            <a:ext cx="12979440" cy="756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535040" indent="-15350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18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8796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35654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425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425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4251240" indent="-94932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6946920" y="2781360"/>
            <a:ext cx="530856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1000"/>
          </a:bodyPr>
          <a:p>
            <a:pPr marL="95184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22292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150156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178056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206748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206748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2067480" indent="-93636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1269720" y="1092240"/>
            <a:ext cx="10464840" cy="368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1269720" y="4876560"/>
            <a:ext cx="1046484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1269720" y="3098880"/>
            <a:ext cx="10464840" cy="355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1335240" indent="-13352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18975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marL="250524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marL="310176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marL="3698280" indent="-825840">
              <a:spcBef>
                <a:spcPts val="2801"/>
              </a:spcBef>
              <a:buClr>
                <a:srgbClr val="2d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1269720" y="6908400"/>
            <a:ext cx="1046484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11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433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bf2"/>
                </a:solidFill>
                <a:latin typeface="Futura Condensed"/>
              </a:rPr>
              <a:t>Click to edit the title text format</a:t>
            </a:r>
            <a:endParaRPr b="0" lang="en-US" sz="8000" spc="-1" strike="noStrike">
              <a:solidFill>
                <a:srgbClr val="fffbf2"/>
              </a:solidFill>
              <a:latin typeface="Futura Condensed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293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lick to edit the outline text format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con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2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Third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3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our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4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Fif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5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ix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6" algn="ctr">
              <a:buClr>
                <a:srgbClr val="2d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venth Outline Level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35040" y="2145960"/>
            <a:ext cx="596880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40608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728640" indent="-4057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1093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45764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822320" indent="-40608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8242200" y="2145960"/>
            <a:ext cx="412776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3660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1" marL="6040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2" marL="9064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3" marL="12088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4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5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lvl="6" marL="1511280" indent="-33660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body"/>
          </p:nvPr>
        </p:nvSpPr>
        <p:spPr>
          <a:xfrm>
            <a:off x="634680" y="2145960"/>
            <a:ext cx="117349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5000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38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16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1028520" y="2476440"/>
            <a:ext cx="10947240" cy="271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1028520" y="5206680"/>
            <a:ext cx="109472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 algn="r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35040" y="2463480"/>
            <a:ext cx="6006960" cy="271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65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635040" y="5206680"/>
            <a:ext cx="600696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1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2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3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4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5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  <a:p>
            <a:pPr lvl="6">
              <a:buClr>
                <a:srgbClr val="2b2922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0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34680" y="7721640"/>
            <a:ext cx="1173492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61760" y="2768400"/>
            <a:ext cx="11480760" cy="5715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86000"/>
          </a:bodyPr>
          <a:p>
            <a:pPr marL="72072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1" marL="11030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2" marL="148536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3" marL="1867680" indent="-49140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4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5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lvl="6" marL="2249640" indent="-491040">
              <a:spcBef>
                <a:spcPts val="25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1028520" y="2945880"/>
            <a:ext cx="10947240" cy="386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2b2922"/>
                </a:solidFill>
                <a:latin typeface="Copperplate Light"/>
              </a:rPr>
              <a:t>Click to edit the title text format</a:t>
            </a:r>
            <a:endParaRPr b="0" lang="en-US" sz="8600" spc="-1" strike="noStrike">
              <a:solidFill>
                <a:srgbClr val="2b2922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761760" y="7340760"/>
            <a:ext cx="11480760" cy="1574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8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body"/>
          </p:nvPr>
        </p:nvSpPr>
        <p:spPr>
          <a:xfrm>
            <a:off x="634680" y="888480"/>
            <a:ext cx="11734920" cy="797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112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Click to edit the outline text format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1" marL="737640" indent="-41076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con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2" marL="1106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Third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3" marL="1475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our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4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Fif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5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ix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  <a:p>
            <a:pPr lvl="6" marL="1844640" indent="-411120">
              <a:spcBef>
                <a:spcPts val="6199"/>
              </a:spcBef>
              <a:buClr>
                <a:srgbClr val="2b2922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922"/>
                </a:solidFill>
                <a:latin typeface="Copperplate"/>
              </a:rPr>
              <a:t>Seventh Outline Level</a:t>
            </a:r>
            <a:endParaRPr b="0" lang="en-US" sz="4400" spc="-1" strike="noStrike">
              <a:solidFill>
                <a:srgbClr val="2b2922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11480760" cy="152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6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62120" y="2653920"/>
            <a:ext cx="5333760" cy="614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511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86256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2" marL="1213920" indent="-30096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3" marL="156492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4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5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6" marL="1916280" indent="-300600">
              <a:spcBef>
                <a:spcPts val="47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035160" y="1968480"/>
            <a:ext cx="6946920" cy="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hyperlink" Target="http://polyvision.wikispaces.com/" TargetMode="External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hyperlink" Target="http://www.globalclassroom.org/ecell00/javamath.html" TargetMode="External"/><Relationship Id="rId9" Type="http://schemas.openxmlformats.org/officeDocument/2006/relationships/hyperlink" Target="http://www.games1.org/games/place_states.swf" TargetMode="External"/><Relationship Id="rId10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ct"/><Relationship Id="rId7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1269720" y="187956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0955a"/>
                </a:solidFill>
                <a:latin typeface="Baskerville"/>
              </a:rPr>
              <a:t>Interactive Whiteboards</a:t>
            </a:r>
            <a:endParaRPr b="0" lang="en-US" sz="8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1269720" y="5358960"/>
            <a:ext cx="10464840" cy="1854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>
                <a:solidFill>
                  <a:srgbClr val="b0955a"/>
                </a:solidFill>
                <a:latin typeface="Baskerville"/>
              </a:rPr>
              <a:t>Effective Use in the Social Studies Classroom</a:t>
            </a:r>
            <a:endParaRPr b="0" i="1" lang="en-US" sz="52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/>
          </p:nvPr>
        </p:nvSpPr>
        <p:spPr>
          <a:xfrm>
            <a:off x="1231920" y="1600200"/>
            <a:ext cx="9245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810000" indent="-512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Give power to the students, and teach them presentational skills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810000" indent="-512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Enhance your good instruction: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117080" indent="-476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Savoye LET"/>
                <a:hlinkClick r:id="rId5"/>
              </a:rPr>
              <a:t>http://polyvision.wikispaces.com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marL="1117080" indent="-476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arch terms: “interactive” “smartboard” “whiteboard” “polyvision” etc.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marL="1117080" indent="-476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I found 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Savoye LET"/>
                <a:hlinkClick r:id="rId8"/>
              </a:rPr>
              <a:t>http://www.globalclassroom.org/ecell00/javamath.html</a:t>
            </a: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 which led to 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Savoye LET"/>
                <a:hlinkClick r:id="rId9"/>
              </a:rPr>
              <a:t>http://www.games1.org/games/place_states.swf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 type="title"/>
          </p:nvPr>
        </p:nvSpPr>
        <p:spPr>
          <a:xfrm>
            <a:off x="3390840" y="49536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Shift Thinking...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Another search trick...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85" name=""/>
          <p:cNvSpPr/>
          <p:nvPr/>
        </p:nvSpPr>
        <p:spPr>
          <a:xfrm>
            <a:off x="0" y="2952720"/>
            <a:ext cx="1299204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cd9c"/>
                </a:solidFill>
                <a:latin typeface="Gill Sans"/>
                <a:ea typeface="Gill Sans"/>
              </a:rPr>
              <a:t>Search using file extensions such as :ppt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cd9c"/>
                </a:solidFill>
                <a:latin typeface="Gill Sans"/>
                <a:ea typeface="Gill Sans"/>
              </a:rPr>
              <a:t>A warning about this...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cd9c"/>
                </a:solidFill>
                <a:latin typeface="Gill Sans"/>
                <a:ea typeface="Gill Sans"/>
              </a:rPr>
              <a:t>Nevertheless, a good example:</a:t>
            </a:r>
            <a:endParaRPr b="0" lang="en-US" sz="4200" spc="-1" strike="noStrike">
              <a:solidFill>
                <a:srgbClr val="595650"/>
              </a:solidFill>
              <a:latin typeface="Baskervil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cd9c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 u="sng">
                <a:solidFill>
                  <a:srgbClr val="fffcab"/>
                </a:solidFill>
                <a:uFillTx/>
                <a:latin typeface="Gill Sans"/>
                <a:ea typeface="Gill Sans"/>
              </a:rPr>
              <a:t>http://www.hardin.k12.ky.us/res_techn/Download/constitution8.ppt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88920" y="495000"/>
            <a:ext cx="9461520" cy="24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Yeah, I saved that last year.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6260760" y="313704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355320"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148428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Build lessons using various software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295280" indent="-355320"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148428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RM Easiteach(Polyvision)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295280" indent="-355320"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148428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mart Notebook (must own board somewhere)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295280" indent="-355320"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148428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Benefit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pic>
        <p:nvPicPr>
          <p:cNvPr id="2788" name="" descr=""/>
          <p:cNvPicPr/>
          <p:nvPr/>
        </p:nvPicPr>
        <p:blipFill>
          <a:blip r:embed="rId6"/>
          <a:stretch/>
        </p:blipFill>
        <p:spPr>
          <a:xfrm>
            <a:off x="901800" y="436896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34680" y="380880"/>
            <a:ext cx="11734920" cy="335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b2922"/>
                </a:solidFill>
                <a:latin typeface="Copperplate Light"/>
              </a:rPr>
              <a:t>How can this tool  make existing practice stronger?</a:t>
            </a:r>
            <a:endParaRPr b="0" lang="en-US" sz="8000" spc="-1" strike="noStrike">
              <a:solidFill>
                <a:srgbClr val="2b2922"/>
              </a:solidFill>
              <a:latin typeface="Copperplate Light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6997320" y="3860280"/>
            <a:ext cx="11734920" cy="509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Wikis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4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Blogs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43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Moodle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  <a:p>
            <a:pPr marL="495360" indent="-495360">
              <a:lnSpc>
                <a:spcPct val="100000"/>
              </a:lnSpc>
              <a:spcBef>
                <a:spcPts val="43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2"/>
                </a:solidFill>
                <a:latin typeface="Copperplate"/>
              </a:rPr>
              <a:t>Classroom management</a:t>
            </a:r>
            <a:endParaRPr b="0" lang="en-US" sz="3400" spc="-1" strike="noStrike">
              <a:solidFill>
                <a:srgbClr val="2b2922"/>
              </a:solidFill>
              <a:latin typeface="Copperplate"/>
            </a:endParaRPr>
          </a:p>
        </p:txBody>
      </p:sp>
      <p:sp>
        <p:nvSpPr>
          <p:cNvPr id="2791" name=""/>
          <p:cNvSpPr/>
          <p:nvPr/>
        </p:nvSpPr>
        <p:spPr>
          <a:xfrm rot="19185600">
            <a:off x="1141200" y="5500440"/>
            <a:ext cx="4190760" cy="1269720"/>
          </a:xfrm>
          <a:prstGeom prst="leftRightArrow">
            <a:avLst>
              <a:gd name="adj1" fmla="val 58000"/>
              <a:gd name="adj2" fmla="val 42998"/>
            </a:avLst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/>
          </p:nvPr>
        </p:nvSpPr>
        <p:spPr>
          <a:xfrm>
            <a:off x="12600" y="2781360"/>
            <a:ext cx="129794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Mark it up!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Capture it! (with sound!)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ave it!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Send it!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  <a:p>
            <a:pPr lvl="1" marL="2232000" indent="-949320">
              <a:lnSpc>
                <a:spcPct val="100000"/>
              </a:lnSpc>
              <a:spcBef>
                <a:spcPts val="2801"/>
              </a:spcBef>
              <a:buSzPct val="159405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d4141"/>
                </a:solidFill>
                <a:latin typeface="Futura Condensed"/>
              </a:rPr>
              <a:t>Zoom, shield, spotlight...</a:t>
            </a:r>
            <a:endParaRPr b="0" lang="en-US" sz="4600" spc="-1" strike="noStrike">
              <a:solidFill>
                <a:srgbClr val="2d4141"/>
              </a:solidFill>
              <a:latin typeface="Futura Condensed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title"/>
          </p:nvPr>
        </p:nvSpPr>
        <p:spPr>
          <a:xfrm>
            <a:off x="482760" y="304920"/>
            <a:ext cx="11252160" cy="294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 Condensed"/>
              </a:rPr>
              <a:t>And then there are the tools!</a:t>
            </a:r>
            <a:endParaRPr b="0" lang="en-US" sz="9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